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EB77-1120-405C-A36A-01C41C9C7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6573-3AE2-4D31-81CA-AE9554FDE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414F-FEC1-4AA4-9990-361F100CE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F962-97E3-4A7D-AF5A-F3BB591A9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588C-37B1-4D0E-A878-9BD581850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CA30-0F40-4B8B-BF19-310514D11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1AAA-B434-4469-94FD-8FA1A2B1B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F594-3331-4C45-BCEC-9E2692A0D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888E-46A8-45DB-9273-B4923C448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544B-3511-4E23-B888-520092712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6D5B-126A-4770-ABC4-907CFFCBC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AD8D-FC2F-4EBC-8752-B35D47D9A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B59A0-7D21-434B-A2C3-A7D54A2D6E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? I prefer dubb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5T20:53:42Z</dcterms:created>
  <dc:creator>DOEUSER</dc:creator>
  <dc:description/>
  <dc:language>en-US</dc:language>
  <cp:lastModifiedBy>DOEUSER</cp:lastModifiedBy>
  <dcterms:modified xsi:type="dcterms:W3CDTF">2014-11-25T20:55:16Z</dcterms:modified>
  <cp:revision>1</cp:revision>
  <dc:subject/>
  <dc:title>Test title</dc:title>
</cp:coreProperties>
</file>